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2EC-2008-4074-BB86-81A9A76A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F60-0349-475D-9DE7-44E3C878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658-0C19-44E7-AA44-C683C8D4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18A-3EFC-4382-8065-08AC69B8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E051-EFF8-4915-9EBE-143FB1AE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DEB5-EB4E-4AC8-98AC-DC1BDE31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6E3A-C5B4-4A7C-A47D-A6A97BA7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C685-1F72-4F2A-80F3-D58854F7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4343-F3D5-4723-A16B-884A39B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EA61-BA98-4C8F-B81A-02DCC53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6CD8-2940-4AB7-A04D-060202C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A24-55F2-426C-946B-322AA8A2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E391-290B-4204-8A7B-D717FC4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5D2F-2046-463C-A8ED-DBD22514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B53-0588-4317-B121-4D0ED9E5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7314-4E9B-4587-8334-8D265F30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AFDC-F654-409D-9760-AABCEA68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A6FE-BF3E-467E-8C18-E93410B2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DF83-3EE2-474A-8AA0-8203C58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4FB3-DF16-4AB9-B79B-83E17BEB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38C2-0D36-4DE8-94A1-47FDCA17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343A-573A-4AC1-A753-44CB4D08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2CE-ED33-4D31-BFC1-0A490745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D7E1-6FDD-44B2-8A33-9F89EFD9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18EB-FD59-4376-BA68-39C06640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D949-D014-4A2C-9CEF-5059438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AB06-1855-407B-B3AD-EFE41BD1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6F71-4392-474C-950F-EFF5D404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3CE9-F880-40BA-86BF-E65CD367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90AF-B596-4846-B929-B501FD02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953E-4C9A-4EED-A817-E1B885A7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AC8C-A666-4520-8B99-5D8ADCBE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B1EB-0FE8-40FC-8EEF-58D16649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051-BBEE-4E44-80B4-41F2422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8499-7CD7-46D8-B401-67E936F0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2103-99BD-45A0-B741-68EED018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9FC8-93CC-40BD-A032-41D7B53A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A286-50AC-4397-8951-7C3B0E9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983C-C7CB-4C3C-BD50-AE3B585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908F-EB2E-4E39-99A5-AE9D12C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C34F-8885-49D3-A0A9-3C8E9D94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75A2-29C7-4217-9E71-D481FA58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8DF0-1BEF-498A-A19F-67C34E52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78CD-5DB5-4998-876D-F83E5670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A2F-BB41-445A-93DE-4BB85CA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174F-D1B0-409C-A3F9-DB844F78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F0F6-E531-4529-B4AF-270F019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EFEB-DB20-4BD2-8B5A-9F428297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775E1-2F31-4B86-9689-68DE860E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A487-5422-481C-88DC-B78B49EF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0D9DA-8769-486C-A5D6-6ECEBEB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16CF-268F-432E-AB23-6542AD4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D2C9E-5613-4FE4-833F-F08E7A74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45720-C4AE-4266-9A4E-93C2A909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D60A9-F4D2-4DDA-B455-41DD6D1E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E79-0FB4-4138-9455-194689F7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BBD4-6CD7-47A0-9F1D-E7966623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2CC-92A9-47BE-8928-BA7194C0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A9C-338B-40BD-A07B-BA473468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12E-E984-4BA2-9DC2-A95CDB3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5A09-7133-4542-8370-6DC7440931FB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5A6-A693-46AE-B0F5-27CE667794C1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D165-3F95-43DE-A8CF-7F8F50E21599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EC90-51A0-4682-8171-A9267B06461F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38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e5b6f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e5b6f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16B1-6758-4730-A7FF-D5B4605A0AB7}" type="slidenum">
              <a:rPr b="0" lang="es-E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Imagen" descr="imagesCAMS19I4videojuegostitulo.jpg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 Imagen" descr="09-03-13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2 Rectángulo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00"/>
                </a:solidFill>
                <a:latin typeface="Baskerville Old Face"/>
              </a:rPr>
              <a:t>De aventuras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 Rectángulo"/>
          <p:cNvSpPr/>
          <p:nvPr/>
        </p:nvSpPr>
        <p:spPr>
          <a:xfrm>
            <a:off x="0" y="2967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askerville Old Face"/>
              </a:rPr>
              <a:t>Incorpora una alta interactiv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askerville Old Face"/>
              </a:rPr>
              <a:t>y la necesidad de tomar decisio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askerville Old Face"/>
              </a:rPr>
              <a:t>nes de forma const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Imagen" descr="imagesCA09DTKMjuegos de rol.jpg"/>
          <p:cNvPicPr/>
          <p:nvPr/>
        </p:nvPicPr>
        <p:blipFill>
          <a:blip r:embed="rId1"/>
          <a:stretch/>
        </p:blipFill>
        <p:spPr>
          <a:xfrm>
            <a:off x="3492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3 Rectángulo"/>
          <p:cNvSpPr/>
          <p:nvPr/>
        </p:nvSpPr>
        <p:spPr>
          <a:xfrm>
            <a:off x="0" y="0"/>
            <a:ext cx="499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Baskerville Old Face"/>
              </a:rPr>
              <a:t>De rol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4 Rectángulo"/>
          <p:cNvSpPr/>
          <p:nvPr/>
        </p:nvSpPr>
        <p:spPr>
          <a:xfrm>
            <a:off x="0" y="21337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Dependen de la evolución de 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personajes y desarrollan el cálculo mental , el vocabulario, estimulan la creatividad, ciertos valores de socialización como la empatía, tolerancia y responsabilidad unidos al trabajo en equip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1 Imagen" descr="simulacion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2 CuadroTexto"/>
          <p:cNvSpPr/>
          <p:nvPr/>
        </p:nvSpPr>
        <p:spPr>
          <a:xfrm>
            <a:off x="0" y="0"/>
            <a:ext cx="6154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Baskerville Old Face"/>
              </a:rPr>
              <a:t>De simulación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Rectángulo"/>
          <p:cNvSpPr/>
          <p:nvPr/>
        </p:nvSpPr>
        <p:spPr>
          <a:xfrm>
            <a:off x="0" y="26906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Son un buen instrumento para  entender, fomentando por ejemplo el gusto por la naturaleza, el consumo responsable y el respeto por los animal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1 Imagen" descr="imagenes-videojuegos-gran-turismo-5-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2 Rectángulo"/>
          <p:cNvSpPr/>
          <p:nvPr/>
        </p:nvSpPr>
        <p:spPr>
          <a:xfrm>
            <a:off x="0" y="0"/>
            <a:ext cx="525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738ac8"/>
                </a:solidFill>
                <a:latin typeface="Baskerville Old Face"/>
              </a:rPr>
              <a:t>De deportes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Rectángulo"/>
          <p:cNvSpPr/>
          <p:nvPr/>
        </p:nvSpPr>
        <p:spPr>
          <a:xfrm>
            <a:off x="0" y="33577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738ac8"/>
                </a:solidFill>
                <a:latin typeface="Baskerville Old Face"/>
              </a:rPr>
              <a:t>Favorece el entrenamiento  de habilidades , el procesamiento de información y el desarrollo psicomotr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1 Imagen" descr="clasif. por ed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4 CuadroTexto"/>
          <p:cNvSpPr/>
          <p:nvPr/>
        </p:nvSpPr>
        <p:spPr>
          <a:xfrm>
            <a:off x="2340000" y="549360"/>
            <a:ext cx="69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Perpetua"/>
              </a:rPr>
              <a:t>    </a:t>
            </a:r>
            <a:r>
              <a:rPr b="1" lang="es-ES" sz="3600" spc="-1" strike="noStrike">
                <a:solidFill>
                  <a:srgbClr val="ffc000"/>
                </a:solidFill>
                <a:latin typeface="Perpetua"/>
              </a:rPr>
              <a:t>Sugerido a partir de los 3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Perpetu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 CuadroTexto"/>
          <p:cNvSpPr/>
          <p:nvPr/>
        </p:nvSpPr>
        <p:spPr>
          <a:xfrm flipV="1" rot="10800000">
            <a:off x="468000" y="1557000"/>
            <a:ext cx="21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7 CuadroTexto"/>
          <p:cNvSpPr/>
          <p:nvPr/>
        </p:nvSpPr>
        <p:spPr>
          <a:xfrm flipV="1" rot="10800000">
            <a:off x="468360" y="25142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E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9 CuadroTexto"/>
          <p:cNvSpPr/>
          <p:nvPr/>
        </p:nvSpPr>
        <p:spPr>
          <a:xfrm>
            <a:off x="395280" y="333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c000"/>
                </a:solidFill>
                <a:latin typeface="Baskerville Old Face"/>
              </a:rPr>
              <a:t>E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Flecha derecha"/>
          <p:cNvSpPr/>
          <p:nvPr/>
        </p:nvSpPr>
        <p:spPr>
          <a:xfrm>
            <a:off x="1692360" y="549360"/>
            <a:ext cx="1079280" cy="64764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Flecha derecha"/>
          <p:cNvSpPr/>
          <p:nvPr/>
        </p:nvSpPr>
        <p:spPr>
          <a:xfrm>
            <a:off x="1763640" y="1700280"/>
            <a:ext cx="1079640" cy="6490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3 Flecha derecha"/>
          <p:cNvSpPr/>
          <p:nvPr/>
        </p:nvSpPr>
        <p:spPr>
          <a:xfrm>
            <a:off x="1835280" y="2708280"/>
            <a:ext cx="1081080" cy="6494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4 CuadroTexto"/>
          <p:cNvSpPr/>
          <p:nvPr/>
        </p:nvSpPr>
        <p:spPr>
          <a:xfrm>
            <a:off x="2843280" y="1557360"/>
            <a:ext cx="49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6 años en ade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5 CuadroTexto"/>
          <p:cNvSpPr/>
          <p:nvPr/>
        </p:nvSpPr>
        <p:spPr>
          <a:xfrm>
            <a:off x="2916360" y="2708280"/>
            <a:ext cx="32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10 años o m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6 CuadroTexto"/>
          <p:cNvSpPr/>
          <p:nvPr/>
        </p:nvSpPr>
        <p:spPr>
          <a:xfrm>
            <a:off x="395280" y="3573360"/>
            <a:ext cx="15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7 Flecha derecha"/>
          <p:cNvSpPr/>
          <p:nvPr/>
        </p:nvSpPr>
        <p:spPr>
          <a:xfrm>
            <a:off x="1908000" y="3716280"/>
            <a:ext cx="1079640" cy="6494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8 CuadroTexto"/>
          <p:cNvSpPr/>
          <p:nvPr/>
        </p:nvSpPr>
        <p:spPr>
          <a:xfrm>
            <a:off x="2916360" y="378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13 años o m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9 CuadroTexto"/>
          <p:cNvSpPr/>
          <p:nvPr/>
        </p:nvSpPr>
        <p:spPr>
          <a:xfrm>
            <a:off x="395280" y="4581360"/>
            <a:ext cx="10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20 Flecha derecha"/>
          <p:cNvSpPr/>
          <p:nvPr/>
        </p:nvSpPr>
        <p:spPr>
          <a:xfrm>
            <a:off x="1908000" y="4797360"/>
            <a:ext cx="1079640" cy="647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22 CuadroTexto"/>
          <p:cNvSpPr/>
          <p:nvPr/>
        </p:nvSpPr>
        <p:spPr>
          <a:xfrm>
            <a:off x="2987640" y="4797360"/>
            <a:ext cx="44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Mayores de 17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23 CuadroTexto"/>
          <p:cNvSpPr/>
          <p:nvPr/>
        </p:nvSpPr>
        <p:spPr>
          <a:xfrm>
            <a:off x="324000" y="5661000"/>
            <a:ext cx="144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A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24 Flecha derecha"/>
          <p:cNvSpPr/>
          <p:nvPr/>
        </p:nvSpPr>
        <p:spPr>
          <a:xfrm>
            <a:off x="1908000" y="5877000"/>
            <a:ext cx="1079640" cy="6476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25 CuadroTexto"/>
          <p:cNvSpPr/>
          <p:nvPr/>
        </p:nvSpPr>
        <p:spPr>
          <a:xfrm>
            <a:off x="2916360" y="5589720"/>
            <a:ext cx="62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Escenas de violencia, sexo, ra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Baskerville Old Face"/>
              </a:rPr>
              <a:t>cismo y se sugiere para  adul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1 Imagen" descr="clasif droga, sexo, lenguaje, sexo y violencia.jpg"/>
          <p:cNvPicPr/>
          <p:nvPr/>
        </p:nvPicPr>
        <p:blipFill>
          <a:blip r:embed="rId1"/>
          <a:stretch/>
        </p:blipFill>
        <p:spPr>
          <a:xfrm>
            <a:off x="1187280" y="0"/>
            <a:ext cx="675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1 CuadroTexto"/>
          <p:cNvGrpSpPr/>
          <p:nvPr/>
        </p:nvGrpSpPr>
        <p:grpSpPr>
          <a:xfrm>
            <a:off x="-66600" y="-219240"/>
            <a:ext cx="9277200" cy="7358400"/>
            <a:chOff x="-66600" y="-219240"/>
            <a:chExt cx="9277200" cy="7358400"/>
          </a:xfrm>
        </p:grpSpPr>
        <p:pic>
          <p:nvPicPr>
            <p:cNvPr id="234" name="1 CuadroTexto" descr=""/>
            <p:cNvPicPr/>
            <p:nvPr/>
          </p:nvPicPr>
          <p:blipFill>
            <a:blip r:embed="rId1"/>
            <a:stretch/>
          </p:blipFill>
          <p:spPr>
            <a:xfrm>
              <a:off x="-66600" y="-219240"/>
              <a:ext cx="9277200" cy="73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0"/>
              <a:ext cx="9144000" cy="58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0" spc="-1" strike="noStrike">
                  <a:solidFill>
                    <a:srgbClr val="ffff00"/>
                  </a:solidFill>
                  <a:latin typeface="Baskerville Old Face"/>
                </a:rPr>
                <a:t>Videojuegos como dispositivos culturales: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ffff00"/>
                  </a:solidFill>
                  <a:latin typeface="Baskerville Old Face"/>
                </a:rPr>
                <a:t>“</a:t>
              </a:r>
              <a:r>
                <a:rPr b="1" lang="es-ES" sz="4400" spc="-1" strike="noStrike">
                  <a:solidFill>
                    <a:srgbClr val="ffff00"/>
                  </a:solidFill>
                  <a:latin typeface="Baskerville Old Face"/>
                </a:rPr>
                <a:t>las competencias espaciales en educación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00"/>
                  </a:solidFill>
                  <a:latin typeface="Baskerville Old Face"/>
                </a:rPr>
                <a:t>Autora: Ana Sedeñ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00"/>
                  </a:solidFill>
                  <a:latin typeface="Baskerville Old Face"/>
                </a:rPr>
                <a:t>(Málaga – España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ffff00"/>
                  </a:solidFill>
                  <a:latin typeface="Baskerville Old Face"/>
                </a:rPr>
                <a:t>20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1 CuadroTexto"/>
          <p:cNvGrpSpPr/>
          <p:nvPr/>
        </p:nvGrpSpPr>
        <p:grpSpPr>
          <a:xfrm>
            <a:off x="-390600" y="-219240"/>
            <a:ext cx="10088640" cy="11011680"/>
            <a:chOff x="-390600" y="-219240"/>
            <a:chExt cx="10088640" cy="11011680"/>
          </a:xfrm>
        </p:grpSpPr>
        <p:pic>
          <p:nvPicPr>
            <p:cNvPr id="237" name="1 CuadroTexto" descr=""/>
            <p:cNvPicPr/>
            <p:nvPr/>
          </p:nvPicPr>
          <p:blipFill>
            <a:blip r:embed="rId1"/>
            <a:stretch/>
          </p:blipFill>
          <p:spPr>
            <a:xfrm>
              <a:off x="-390600" y="-219240"/>
              <a:ext cx="10088640" cy="87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572760" cy="107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La presente investigación sostien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que es imprescindible su análisi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por su importancia como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herramienta educativa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 u="sng">
                  <a:solidFill>
                    <a:srgbClr val="ffc000"/>
                  </a:solidFill>
                  <a:uFillTx/>
                  <a:latin typeface="Baskerville Old Face"/>
                </a:rPr>
                <a:t>como</a:t>
              </a: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       recurso didáctic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                </a:t>
              </a: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dispositivo cultural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                </a:t>
              </a:r>
              <a:r>
                <a:rPr b="0" lang="es-ES" sz="5400" spc="-1" strike="noStrike">
                  <a:solidFill>
                    <a:srgbClr val="ffc000"/>
                  </a:solidFill>
                  <a:latin typeface="Baskerville Old Face"/>
                </a:rPr>
                <a:t>representación espacial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9" name="3 Conector recto de flecha"/>
          <p:cNvCxnSpPr/>
          <p:nvPr/>
        </p:nvCxnSpPr>
        <p:spPr>
          <a:xfrm>
            <a:off x="1763280" y="4581000"/>
            <a:ext cx="577080" cy="10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240" name="5 Conector recto de flecha"/>
          <p:cNvCxnSpPr/>
          <p:nvPr/>
        </p:nvCxnSpPr>
        <p:spPr>
          <a:xfrm>
            <a:off x="1763280" y="4581000"/>
            <a:ext cx="577080" cy="5770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241" name="10 Conector recto de flecha"/>
          <p:cNvCxnSpPr/>
          <p:nvPr/>
        </p:nvCxnSpPr>
        <p:spPr>
          <a:xfrm>
            <a:off x="1763280" y="4581360"/>
            <a:ext cx="648360" cy="1369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1 Imagen" descr="recursos didácticos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243" name="2 CuadroTexto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5fa326"/>
                </a:solidFill>
                <a:latin typeface="Baskerville Old Face"/>
              </a:rPr>
              <a:t>Recurso   didáctico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3 CuadroTexto"/>
          <p:cNvSpPr/>
          <p:nvPr/>
        </p:nvSpPr>
        <p:spPr>
          <a:xfrm>
            <a:off x="0" y="386064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Como juegos son una acción creativ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ficticia y experimental que signi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seguir reglas y estrategias par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d0d0d"/>
                </a:solidFill>
                <a:latin typeface="Baskerville Old Face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1 Imagen" descr="representación espaci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2 CuadroTexto"/>
          <p:cNvSpPr/>
          <p:nvPr/>
        </p:nvSpPr>
        <p:spPr>
          <a:xfrm>
            <a:off x="-281520" y="692280"/>
            <a:ext cx="886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000"/>
                </a:solidFill>
                <a:latin typeface="Baskerville Old Face"/>
              </a:rPr>
              <a:t>Representación  espacia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3 CuadroTexto"/>
          <p:cNvSpPr/>
          <p:nvPr/>
        </p:nvSpPr>
        <p:spPr>
          <a:xfrm>
            <a:off x="0" y="3141720"/>
            <a:ext cx="92203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Tiene que ver con el desarrollo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algunos reflejos, favoreciendo l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destrezas en el procesamiento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palabras que incluyen la compr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000"/>
                </a:solidFill>
                <a:latin typeface="Perpetua"/>
              </a:rPr>
              <a:t>en la naturaleza secuencial del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1 Imagen" descr="imagescompartir juegos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9" name="2 CuadroTexto"/>
          <p:cNvSpPr/>
          <p:nvPr/>
        </p:nvSpPr>
        <p:spPr>
          <a:xfrm>
            <a:off x="-90000" y="549360"/>
            <a:ext cx="78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c000"/>
                </a:solidFill>
                <a:latin typeface="Baskerville Old Face"/>
              </a:rPr>
              <a:t>Dispositivo cultural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 CuadroTexto"/>
          <p:cNvSpPr/>
          <p:nvPr/>
        </p:nvSpPr>
        <p:spPr>
          <a:xfrm>
            <a:off x="0" y="5307120"/>
            <a:ext cx="950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000"/>
                </a:solidFill>
                <a:latin typeface="Baskerville Old Face"/>
              </a:rPr>
              <a:t>Es un medio masivo de socializ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Imagen" descr="Tipos de Videojueg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2 CuadroTexto"/>
          <p:cNvSpPr/>
          <p:nvPr/>
        </p:nvSpPr>
        <p:spPr>
          <a:xfrm flipV="1" rot="10800000">
            <a:off x="468360" y="2517480"/>
            <a:ext cx="88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66"/>
                </a:solidFill>
                <a:latin typeface="Baskerville Old Face"/>
              </a:rPr>
              <a:t>Tipos   de   videojueg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1 Imagen" descr="garfield.jpg"/>
          <p:cNvPicPr/>
          <p:nvPr/>
        </p:nvPicPr>
        <p:blipFill>
          <a:blip r:embed="rId1"/>
          <a:stretch/>
        </p:blipFill>
        <p:spPr>
          <a:xfrm>
            <a:off x="0" y="11160"/>
            <a:ext cx="9396360" cy="6835680"/>
          </a:xfrm>
          <a:prstGeom prst="rect">
            <a:avLst/>
          </a:prstGeom>
          <a:ln w="0">
            <a:noFill/>
          </a:ln>
        </p:spPr>
      </p:pic>
      <p:sp>
        <p:nvSpPr>
          <p:cNvPr id="254" name="2 CuadroTexto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Baskerville Old Face"/>
              </a:rPr>
              <a:t>De acción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No hay que planificar  sin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interactuar con el entorno lo má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rápidamente posible median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askerville Old Face"/>
              </a:rPr>
              <a:t>acciones si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Imagen" descr="imagesCAEIGS5E-juegosde estragegia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56" name="2 Rectángulo"/>
          <p:cNvSpPr/>
          <p:nvPr/>
        </p:nvSpPr>
        <p:spPr>
          <a:xfrm>
            <a:off x="0" y="0"/>
            <a:ext cx="532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Baskerville Old Face"/>
              </a:rPr>
              <a:t>De estrategias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 Rectángulo"/>
          <p:cNvSpPr/>
          <p:nvPr/>
        </p:nvSpPr>
        <p:spPr>
          <a:xfrm>
            <a:off x="0" y="2637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Se debe planificar y establecer estrategias para poder avanzar en el juego, con lo cual se desarrolla el pensamiento  lógico y la resolución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askerville Old Face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1:24:19Z</dcterms:created>
  <dc:creator>Usuario</dc:creator>
  <dc:description/>
  <dc:language>en-US</dc:language>
  <cp:lastModifiedBy>Usuario</cp:lastModifiedBy>
  <dcterms:modified xsi:type="dcterms:W3CDTF">2011-10-13T00:28:21Z</dcterms:modified>
  <cp:revision>24</cp:revision>
  <dc:subject/>
  <dc:title>Diapositiva 1</dc:title>
</cp:coreProperties>
</file>